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678-F866-44DA-A4E2-9544E11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305-9BA6-4089-A942-63118B33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138-D84C-4346-BDE0-F73724E6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BEA-78DB-4430-AFD2-365390E1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B02-F62B-4BE8-A228-EEDC034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E15-B52F-486E-8A01-32F1ADB0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C08-6AD6-4800-911D-D9DD57A1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852-AC76-4C0E-B91F-130DF6B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9D1-CA7C-48BA-81F9-DDA3DBEC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7E0-F26B-4D5A-A081-95D9925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7D2-1F79-45D6-8AEB-94A3425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42B-0A3C-4990-B2F4-69D53D65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6631-5FF5-44C1-BB9F-8A340A6B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9 Note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se really for last year’s book ch 25- After you do the notecards for that, will be this year’s note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(You know this 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n Industrial Age social class made up of skilled workers, professionals, business people, and wealthy farm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(You know this one too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00-18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With Industrialization, the social pyramid changed = factory owners grew wealthier than the old landowners &amp; aristocrats = they were at the top = they had the wealth &amp;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LD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42130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523800" y="1511280"/>
            <a:ext cx="4133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: Industrialization Sp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started in Britain then spread to Europe then spread to USA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t got to the USA people developed “corporations” which were businesses owned by “stock-holders” who shared ownership… so instead of one factory owner owning a factory.. Groups of rich people would own one factory IF they owned “STOCK” which was a share in the ownership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d to the STOCK MARKET!! People can NOW buy shares in any company they want and have a piece of “ownership” in that corporation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: Reforming the Industrial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created a WIDE gap between the rich &amp;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Y OWNERS wanted gov’t to STAY OUT of their business affairs (don’t want regulations on how to run their factories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ERS want gov’t TO interfere so the conditions of the poor impro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2 views of how factories should be run led to different economic philosophies (or idea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philosophy-type is the “Factory Owners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issez- 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dam Sm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economic policy that let owners of industry &amp; business set the working conditions without gov’t interference; a free market unregulated by the gov’t.; means “Let do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Britain,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7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e belief was that the economy would prosper if the gov’t stayed out of trade &amp;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,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age where machine-made goods increased the output of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then Europe, then the rest of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Mid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ransformed the way people worked- from home to factories, changed every aspect of life from agricultural to industrial with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dea was introduced by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m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Scottish profess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wrote “The Wealth of Nations” that defended free market, or Laissez- F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Scot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7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 said economic freedom = economic progress; he supported ‘Laissez-Faire’ based on the ideas- 1.people work for their own good, 2. competition = better products, 3. Supply &amp; Demand; his ideas led to Capita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ideas were supported by other economists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more ideas of how the economy should be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such as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omas Malthus &amp; David Ricar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conomic system in which the factors of production are privately owned &amp; money is invested to make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Britain, Europe, 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nted less gov’t interference in economy, higher profit, &amp; cheap labor; Most of the world is this today- ESP the USA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, the other side said “Gov’t should play a part in the Economy to make sure the businesses are being fai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heories are supported by the “Factory Worker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Such a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til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Jeremy Bentham, John Stuart Mi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idea that people should judge ideas, institutions, &amp; actions based on their utility, or usefuln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, the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late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philosophy fought for “the greatest good for the greatest number of people”; John Stuart Mill applied this to the factories- the worker should have rights and not live a deprived life. = factory re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nother “for the worker” philosophy is going to become SUPER popular and is still around toda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: Industrial Reform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: a system where the factors of production (aka the machines &amp; factories) are owned by the public and operate for the welfare of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y: this idea grew out of a positive view on human nature, a belief in progress, and concern for social justice; this idea says the gov’t should plan the economy instead of free-capitalism; they thought gov’t controlling the economy = end of poverty &amp; social e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uld you imagine our gov’t controlling the economy?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prices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small businesses that you can just start up and make money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mmm…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is idea leads to an EXTREME view, or radical Socialism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Journali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created Marxism, an extreme form of socialism- which explained the cycles of social classes (“Dialectical Materialism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18-188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social cycle theory’s last stage was Communism which was a big thing in WWI, WWII, &amp; The Cold War- aka the rest of history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notice how he’s from GERMANY??? Hint Hin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 R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gricultural Far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system of agriculture where every year the farmer rotated or changed the crop he planted to restore the so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,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art of the Agricultural Revolution; improved older agricultural methods which made food supplies increase and living conditions impr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, his theory went like th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ower class “Proletariat” (as he called them) would always revolt against the upper clas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less society developed (“Communism”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look at the cycle on the last slide of the pp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the lower class ppl obv like this idea, right? A Classless society! = WHOA!! AWESOME!!! HECK YEA- GIMME THAT!!!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……. Great IDEA…. BUT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out the rest of history, we will learn it won’t ever work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e had to learn that through WWI, WWII, and the COLD WAR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Stay tuned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lectical Mat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urgeoisie (upper class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1: Kings &amp; Nobles   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2: Landow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3: Factory OWNERS        v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New Phas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sm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y workers are in charge, own the means of production = Classless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letariat (lower clas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5080" y="2174400"/>
            <a:ext cx="42703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= Revolt &amp; become new Bourgeoisi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= Revolt &amp; become the new Bourgeoisie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y Workers = Revolt &amp; become the new bourgeoisi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year’s book’s Noteca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esth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merican Dent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rug that prevents pain during surg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30-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was one of the new inventions/scientific firsts that happened as a result of the Industrial Revolution; this helped improve the medical field &amp; improved surg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ich land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process of taking over and consolidating land formerly shared by peasant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landowners wanted to take land from peasants &amp; create larger fields that would be cultivated more efficiently = British Parliament made legislation to force this = peasants lost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= farm output increased = profits &amp; progress = less workers = peasants forced to the city to find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Wa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cottish engin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ade improvements to Newcomen’s steam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improved engine became a key power source to the IR( Industrial Rev); opened the door to operating machines &amp; powering locomotives &amp; steam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arby 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type of iron that is separate from it’s 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s a new method of producing iron = less $$ &amp; better quality = was used to produce parts for the engine; helped with the making of machines &amp; engines for the IR = spread widely &amp; eventually bridges &amp; railroads were made out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inv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oney used to invest in enter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European business class accumulated this money from growing overseas trade = they took their capital ($$) and invested it in enterprises to make more money = helped make the IR spread rapidly &amp; success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p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capita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business organization in an area like shipping, mining, railroads, fa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usinessmen would invest their capital into these businesses = made the economy grow &amp; prosper = made the IR spread &amp; more indus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&amp;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process of developing machine production of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&amp; Eur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led to a shift for all aspects of life- farm production to factory prod.; rural living to city living; villages to cities; individually made goods to mass produced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reprene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capitalists &amp; busines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ose who manages and assumed the financial risks of starting a new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invested their capital into new enterprises = grew the economy &amp; they became very wealthy = helped the IR spread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ou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a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system of the “cottage industry”; cotton cloth industry at h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w cotton was distributed to peasant families who spun it into thread and then wove the thread into cloth in their own homes; skilled artisans then finished &amp; dyed the cloth; this was the beginning of the division of la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 Whit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merican inven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vented a machine called the cotton gin that separated the seeds from the raw cotton at a fa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process solved the problem of the time consuming cleaning cotton task = cotton production increased exponentially as a result of this invention = more industry &amp;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pi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! Pg. 4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 pg.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che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his one on your own pg.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oor city dwellers, factor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multi story buildings divided into a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an &amp; American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st numbers of poor ppl packed into city slums that had tenements; they lived in tiny rooms, no running water, no sewage or sanitation- waste &amp; garbage was thrown into streets= contaminated drinking water = rapid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U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actor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orkers’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wanted to initiate worker reforms- more pay, &amp;  better working conditions;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es were secret b.c. they were illegal; these groups would riot to get what they wanted = eventually became legal &amp; now protect the workers’ rights against the factory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as Malth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Econom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rote “An Essay on the Principle of Population” where he wrote about the conditions of the 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you can figure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you can figure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e studied crowded slums, hungry families, unemployment as a result of the IR = concluded that poverty was unavoidable b.c. the pop was increasing faster than the food supply; he started a new way of thinking- trying to understand the changes of the 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remy Benth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philosopher &amp; Econom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dvocated for Utilitari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believed all laws or actions should be judged by their utility (usefulness); strongly supported individual freedom which he believed guaranteed happiness; he saw the need for some limited government in some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ealthy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arge buildings with large machines near rivers for water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Euro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Mid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factories mass-produced goods for selling = life of the worker changed = society chan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s of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farms, factories, railways, and other large businesses that produced and distributed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owned the means of production owned the wealth- Socialists felt that the workers worked the means of production so they should own it- not the factory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elsh Mill ow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et up a Utopian model community where his workers lived and worked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Wales, Eng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believed that his Utopian community where all work was shared &amp; all property owned together = no difference b.n rich and poor, no fighting; he campaigned against child labor &amp; encouraged 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letari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working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“have-nots”, working class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Karl Marx theorized about the history of class struggles b.n the haves and have-nots; he predicted this group would take control of the means of productions &amp; create a classless, communist society = that would end the strug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German Socialists, Karl Ma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olitical idealogy in which there is gradual transition from Capitalism to Socialism instead of a sudden violent overthrow of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uch of the 1900s, revolutionaries around the world would adapt Marxist ideas to their own situations &amp; needs (i.e. Stalin, Hitl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: 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ization changed everything about life &amp; society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cities grew = Urb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conditions = decreased– cramped city living (think Slu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conditions = decr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/Social pyramid = changed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eriod of city building and the movement of people to c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(you can figure it out by now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growth of the factory system = a shift in where people worked and lived = people moved from the rural areas to the city = urban areas doubled or quadrupled in this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ization led to a change in society and who was at the top of the pyramid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reated a new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40:30Z</dcterms:created>
  <dc:creator>Windows User</dc:creator>
  <dc:description/>
  <dc:language>en-US</dc:language>
  <cp:lastModifiedBy>Windows User</cp:lastModifiedBy>
  <dcterms:modified xsi:type="dcterms:W3CDTF">2013-02-06T21:17:58Z</dcterms:modified>
  <cp:revision>23</cp:revision>
  <dc:subject/>
  <dc:title>Ch 25 Notecards</dc:title>
</cp:coreProperties>
</file>